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8E2-8FB1-46D7-8766-C56E84DC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EA2-E844-4E35-BA5D-84EAD1D2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68B-8CB7-418F-BDA7-727DCF60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713-878A-4AD3-A178-44E1D2E5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F9C3-7A9A-4E9B-BB30-62F702BB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B5F-D83C-47C5-B02C-8755E1A5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B545-A268-41E0-B491-271061B8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BC1A-72D9-4BA7-B395-83C6D8B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2C1D-EABD-42DD-AD4C-0E3F7A2D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8F19-8CE7-44CD-8090-D4EDC360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4FF4-8D34-46BA-A5F9-7F8FC992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FAB-8DDF-4240-91EB-0EA42361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8F9A-DD43-4737-B6BE-CDD1B9BE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DE51-59DA-4173-9DB8-4F7A3AAA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8F95-0DFA-4327-A3A2-C95EE058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DCA7-BDE7-4176-9570-C1254EEE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D017-D934-460F-BD92-5E4B6E23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89A-5FE6-431C-AD56-99888B42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009-E5D0-437F-BE96-5AB7B21C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8CD-1DE1-45F5-BAA3-F2E1DFE1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B04-9493-4018-9C56-F591830A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522-FBDB-4CED-ADF8-9E46C81E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FD8-D2EB-4C0F-A2E7-BD079BA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88B-C81B-4B1E-A850-921C393F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3E40-3377-4C4F-B2A7-E4DA56CF387F}" type="slidenum">
              <a:rPr b="0" lang="en-US" sz="1400" spc="-1" strike="noStrike">
                <a:solidFill>
                  <a:srgbClr val="21216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072F-C075-48EC-84A3-47DEEAF2FF20}" type="slidenum">
              <a:rPr b="0" lang="en-US" sz="1400" spc="-1" strike="noStrike">
                <a:solidFill>
                  <a:srgbClr val="5d2204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nets.iste.org/currstands/cstands-nets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ers/dlaur/Desktop/Journal%20Entry%20Rubric.doc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Journal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A 21st Century Update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Essential Question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undamental organizing principl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rame student inquir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omote critical thinking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Examp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did the Second Industrial Revolution lead to the rise of big business and the eventual need for progressive reform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How did the U.S. quest for overseas territories in the late 1800s lead to America's involvement in international conflict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oodle Featu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ttp://moodle.cysd.k12.pa.us/course/view.php?id=156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he 21st Century Link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onstructivist Approach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eachers as facilitato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tudents revise prior learnin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http://cnets.iste.org/currstands/cstands-netst.html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I, III, and IV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ssess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osur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ngoing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Quick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udent Thoughts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Helps to organize informa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ood review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mproved test scor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 don’t mind it.”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2:32:21Z</dcterms:created>
  <dc:creator>cysd</dc:creator>
  <dc:description/>
  <dc:language>en-US</dc:language>
  <cp:lastModifiedBy>cysd</cp:lastModifiedBy>
  <dcterms:modified xsi:type="dcterms:W3CDTF">2008-02-20T01:34:45Z</dcterms:modified>
  <cp:revision>4</cp:revision>
  <dc:subject/>
  <dc:title>Journals</dc:title>
</cp:coreProperties>
</file>